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58D-BE67-43F0-8503-3E60A4EE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562-93E7-41FD-8253-CC21FB0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0A6-A687-40C4-8213-652FE72A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E9B-DFF6-4392-9022-6FD25C06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04B-6122-4B8E-A16B-02A13354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CFD-B1AF-4382-B2CB-FDCF50EC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49C4-825A-41EE-97E1-AD7B8667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7169-25B5-4DE7-9124-B449AF76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EF3C-FB5F-4084-AFD3-BD849DC6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6155-5112-4518-86BA-B1DA8C4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AD20-FE2B-4A98-ACA1-631C339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94C-8D0E-4B2A-B87C-F8E7DB43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614F-7450-4A32-A460-CD7BE74B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1EE9-1138-43AF-9E4D-73A7EB5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B4B1-83EC-4F5C-A60B-1C9EA64D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D14F-C49E-4193-A016-345470DC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CA27-0039-4402-A348-6322322B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BEA-5409-4190-A08A-B20573E9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D16-736D-4E86-ACF3-C9C31E08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E3B-432A-4A04-AB30-A5CB40EB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145-EC66-43CF-9B29-241C2916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BF3-CDC5-49AA-BCC7-FF5E6E56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0A0-99DF-4B75-B026-2FEA612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6CA-115E-47EE-A420-C689CB2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4A01-0440-43A8-8306-573ECCFFB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27F8-58C3-4CC1-9E2F-81211BAA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ngular and Plural Nou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629400" y="6172200"/>
            <a:ext cx="2262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S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Some nouns change the inside sp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oman   wom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Nouns that end in consonant letter and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drop the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nd add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fly   f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onkey   monke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Some nouns do not change when making them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tton   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90920" y="1981080"/>
            <a:ext cx="26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251460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04812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358128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411480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64832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5280" y="198108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75280" y="251460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5280" y="304812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358128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s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5280" y="411480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75280" y="4648320"/>
            <a:ext cx="26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ere are 6 ways to change a noun from singular to plural.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920" y="3886200"/>
            <a:ext cx="6738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oun is a person, place, or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ular means only one no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ural means more than one no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1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st nouns become plural by adding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1132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11320" y="44197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9260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k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92600" y="44197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2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uns that end in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,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,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, add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1132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r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9260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rc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3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uns that end in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 or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 often change to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e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.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4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ouns change the inside spelling.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1320" y="39625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92600" y="39625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5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uns that end in a consonant letter and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, drop the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 and add 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11320" y="259056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1132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p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k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11320" y="44197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92600" y="25909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92600" y="32004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pp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92600" y="38098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ke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92600" y="44197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ule 6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ouns do not change when making them plural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11320" y="2971440"/>
            <a:ext cx="233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11320" y="35812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11320" y="41911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11320" y="48006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92600" y="29718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92600" y="358128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92600" y="419112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92600" y="4800600"/>
            <a:ext cx="233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Most nouns become plural by adding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up  cu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Nouns that end in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add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ish   dis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Nouns that end in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often change to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knife   kn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9:07:46Z</dcterms:created>
  <dc:creator>Tom Souter</dc:creator>
  <dc:description/>
  <dc:language>en-US</dc:language>
  <cp:lastModifiedBy>mpeck</cp:lastModifiedBy>
  <cp:lastPrinted>1904-01-01T00:00:00Z</cp:lastPrinted>
  <dcterms:modified xsi:type="dcterms:W3CDTF">2011-01-15T15:36:32Z</dcterms:modified>
  <cp:revision>6</cp:revision>
  <dc:subject/>
  <dc:title>Singular and Plural Nouns</dc:title>
</cp:coreProperties>
</file>